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E55DD-625C-47E2-B324-F37E566B6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5F0C8-E943-4524-A91C-D7100284C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760FE-CD7B-4E07-B41F-DCEF4A189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9E2A0-8408-4CDC-9F09-D4EEC82F3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3C96CB5-553F-4EF5-8475-201BB80B2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F2B1C93-D2B2-44B9-8E28-D2F95A642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2999950-D7E5-4BDA-9E4F-8E7C39312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7B9877E-0180-4016-9A57-071EFBF2C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ECFA5C7-FDD3-49C3-BAA1-780DFA3E1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10C5878-B101-48A4-9A2E-51F19A8F5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7C08CE-E1D0-4653-AEF2-A4FFCBD61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F981C-E17D-4E8F-ACE4-0CA90D10E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3E7A53-3C49-4DE8-8233-B5EE9FD3B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FB7E8E7-80AD-48AE-9139-FE773CC50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F51ECE9-7609-4230-A647-CD2F653DF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9E466EB-3483-4EDC-8712-3FCDA9F96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D58D106-1FAC-4944-89CC-A9A6E1045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302DD-967E-4428-BC87-A41E8166A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ABCE6-2614-4574-BCFF-2CCE30507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0B7C7-3DED-4065-8549-F13B4FC06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8BF8E-40B8-4E14-BE55-6271E1864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41974-AC73-4823-8253-DAD61B6FC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8A9F4-C81F-4F39-9603-982C248DD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DD7AD-8259-4E3C-93FB-C6C00DC0E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8A3A-41B4-41E9-BA0B-33714BA2FC61}"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8804-8AF0-4F11-B9B6-C7EB05F1A289}"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213372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8</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1</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عقود الإنشاء</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2060640"/>
            <a:ext cx="7848720" cy="284472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cs typeface="Simplified Arabic"/>
              </a:rPr>
              <a:t>أمثلة على عقود الإنشاء:</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أصل واحد: </a:t>
            </a:r>
            <a:r>
              <a:rPr b="1" lang="ar-SA" sz="2800" spc="-1" strike="noStrike">
                <a:solidFill>
                  <a:srgbClr val="ffffff"/>
                </a:solidFill>
                <a:latin typeface="Times New Roman"/>
              </a:rPr>
              <a:t>إنشاء كوبري أو مبنى أو سد أو خط أنابيب أو طريق أو سفينة أو نفق</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مجموعة من الأصول التى ترتبط ببعضها أو تعتمد على بعضها البعض:</a:t>
            </a:r>
            <a:r>
              <a:rPr b="1" lang="ar-SA" sz="2800" spc="-1" strike="noStrike">
                <a:solidFill>
                  <a:srgbClr val="ffffff"/>
                </a:solidFill>
                <a:latin typeface="Times New Roman"/>
                <a:ea typeface="Simplified Arabic"/>
              </a:rPr>
              <a:t> عقود إنشاء محطات تكرير البترول أو إنشاء وحدات المصانع والأجهزة المعقدة</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468360" y="2133720"/>
            <a:ext cx="8136000" cy="302400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عادة يتم تطبيق متطلبات هذا المعيار بصفة مستقلة على كل عقد من عقود الإنشاءات ، ولكن فى بعض الحالات يقتضى الأمر تطبيق هذا المعيار على أحد مكونات العقد منفصلاً  ، أو أن يطبق فى بعض الحالات على مجموعة من العقود مع بعضها وذلك من أجل إظهار الوضع الحقيقي لهذا العقد أو مجموعة العقود هذه. </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
          <p:cNvSpPr/>
          <p:nvPr/>
        </p:nvSpPr>
        <p:spPr>
          <a:xfrm>
            <a:off x="3059280" y="1484280"/>
            <a:ext cx="5449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تجميع وفصل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ندما يتعلق العقد بإنشاء عدد من الأصول فإنه يجب معاملة إنشاء كل أصل على أنه عقد مستقل عن</a:t>
            </a:r>
            <a:r>
              <a:rPr b="1" lang="ar-EG" sz="2800" spc="-1" strike="noStrike">
                <a:solidFill>
                  <a:srgbClr val="ffffff"/>
                </a:solidFill>
                <a:latin typeface="Times New Roman"/>
                <a:cs typeface="Simplified Arabic"/>
              </a:rPr>
              <a:t>ه</a:t>
            </a:r>
            <a:r>
              <a:rPr b="1" lang="ar-SA" sz="2800" spc="-1" strike="noStrike">
                <a:solidFill>
                  <a:srgbClr val="ffffff"/>
                </a:solidFill>
                <a:latin typeface="Times New Roman"/>
                <a:cs typeface="Simplified Arabic"/>
              </a:rPr>
              <a:t>ما:</a:t>
            </a:r>
            <a:endParaRPr b="0" lang="en-US" sz="2800" spc="-1" strike="noStrike">
              <a:solidFill>
                <a:srgbClr val="ffffff"/>
              </a:solidFill>
              <a:latin typeface="Times New Roman"/>
            </a:endParaRPr>
          </a:p>
        </p:txBody>
      </p:sp>
      <p:sp>
        <p:nvSpPr>
          <p:cNvPr id="149" name=""/>
          <p:cNvSpPr/>
          <p:nvPr/>
        </p:nvSpPr>
        <p:spPr>
          <a:xfrm>
            <a:off x="4572000" y="765000"/>
            <a:ext cx="4176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فصل عقود الإنشاءات</a:t>
            </a:r>
            <a:endParaRPr b="0" lang="en-US" sz="3200" spc="-1" strike="noStrike">
              <a:solidFill>
                <a:srgbClr val="ffffff"/>
              </a:solidFill>
              <a:latin typeface="Times New Roman"/>
            </a:endParaRPr>
          </a:p>
        </p:txBody>
      </p:sp>
      <p:sp>
        <p:nvSpPr>
          <p:cNvPr id="150" name=""/>
          <p:cNvSpPr/>
          <p:nvPr/>
        </p:nvSpPr>
        <p:spPr>
          <a:xfrm>
            <a:off x="539640" y="2781360"/>
            <a:ext cx="8136000" cy="47865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 يكون هناك عروض منفصلة قد قدمت ل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يكون قد تم الاتفاق والتفاوض لكل أصل على حدة وأنه كان من حق كل طرف من أطراف التعاقد  (العميل والمقاول) أن يقبل أو يرفض هذا الجزء من العقد المرتبط ب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كون من الممكن تحديد تكلفة وإيراد كل أصل على حد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55640" y="1557360"/>
            <a:ext cx="784872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عامل مجموعة العقود سواء كانت مع عميل واحد أو مع عدد من العملاء على أنها عقد واحد عندما:</a:t>
            </a:r>
            <a:endParaRPr b="0" lang="en-US" sz="2800" spc="-1" strike="noStrike">
              <a:solidFill>
                <a:srgbClr val="ffffff"/>
              </a:solidFill>
              <a:latin typeface="Times New Roman"/>
            </a:endParaRPr>
          </a:p>
        </p:txBody>
      </p:sp>
      <p:sp>
        <p:nvSpPr>
          <p:cNvPr id="152" name=""/>
          <p:cNvSpPr/>
          <p:nvPr/>
        </p:nvSpPr>
        <p:spPr>
          <a:xfrm>
            <a:off x="900000" y="2708280"/>
            <a:ext cx="7632720" cy="43599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أ </a:t>
            </a:r>
            <a:r>
              <a:rPr b="1" lang="ar-SA" sz="2800" spc="-1" strike="noStrike">
                <a:solidFill>
                  <a:srgbClr val="ffffff"/>
                </a:solidFill>
                <a:latin typeface="Arial"/>
                <a:ea typeface="Arial"/>
              </a:rPr>
              <a:t>) يكون قد تم مناقشة مجموعة العقود وكأنها وحدة واحدة.</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تكون العقود مرتبطة ومتداخلة وكأنها فى حقيقتها عملية واحدة لها هامش ربح اجمالى.</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تم تنفيذ العقود المختلفة فى ذات الوقت (على التوازي) أو فى ترتيب زمني مستمر الواحد تلو الأخر.</a:t>
            </a:r>
            <a:endParaRPr b="0" lang="en-US" sz="2800" spc="-1" strike="noStrike">
              <a:solidFill>
                <a:srgbClr val="ffffff"/>
              </a:solidFill>
              <a:latin typeface="Times New Roman"/>
            </a:endParaRPr>
          </a:p>
        </p:txBody>
      </p:sp>
      <p:sp>
        <p:nvSpPr>
          <p:cNvPr id="153" name=""/>
          <p:cNvSpPr/>
          <p:nvPr/>
        </p:nvSpPr>
        <p:spPr>
          <a:xfrm>
            <a:off x="4749840" y="663480"/>
            <a:ext cx="45194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جميع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1042920" y="2349360"/>
            <a:ext cx="7532640" cy="2664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يختلف الأصل جوهرياً فى التصميم أو التقنية أو الوظائف عن الأصل أو الأصول التى تم إنشائها بموجب العقد الأصلي.</a:t>
            </a:r>
            <a:endParaRPr b="0" lang="en-US" sz="2800" spc="-1" strike="noStrike">
              <a:solidFill>
                <a:srgbClr val="ffffff"/>
              </a:solidFill>
              <a:latin typeface="Times New Roman"/>
            </a:endParaRPr>
          </a:p>
          <a:p>
            <a:pPr marL="615960" indent="-61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يتم التفاوض بشأن سعر الأصل الجديد بدون الأخذ فى الاعتبار أسعار العقد الأصلي.</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
          <p:cNvSpPr/>
          <p:nvPr/>
        </p:nvSpPr>
        <p:spPr>
          <a:xfrm>
            <a:off x="684360" y="907920"/>
            <a:ext cx="7920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سمح العقد بإنشاء أصل إضافي طبقاً لرغبة العميل ، أو قد يتم تعديل العقد الأصلي ليتضمن إنشاء أصل إضافي ، ويجب معاملة إنشاء الأصل الإضافي كعقد مستقل عندم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539640" y="1844640"/>
            <a:ext cx="8280360" cy="3456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cs typeface="Simplified Arabic"/>
              </a:rPr>
              <a:t>يجب أن تتضمن إيرادات العقود ما يلي:</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القيمة الأصلية للإيرادات المتفق عليها فى العقد.</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التعديلات على الأعمال الواردة فى العقد والمطالبات والحوافز وذلك:</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1</a:t>
            </a:r>
            <a:r>
              <a:rPr b="1" lang="ar-SA" sz="2800" spc="-1" strike="noStrike">
                <a:solidFill>
                  <a:srgbClr val="ffffff"/>
                </a:solidFill>
                <a:latin typeface="Times New Roman"/>
                <a:ea typeface="Simplified Arabic"/>
              </a:rPr>
              <a:t>- إلى مدى احتمال أن يتحقق إيرادات عن هذه الأعمال.</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2</a:t>
            </a:r>
            <a:r>
              <a:rPr b="1" lang="ar-SA" sz="2800" spc="-1" strike="noStrike">
                <a:solidFill>
                  <a:srgbClr val="ffffff"/>
                </a:solidFill>
                <a:latin typeface="Times New Roman"/>
                <a:ea typeface="Simplified Arabic"/>
              </a:rPr>
              <a:t>- إذا كانت هناك إمكانية قياس الإيراد المتعلق بها.</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7" name=""/>
          <p:cNvSpPr/>
          <p:nvPr/>
        </p:nvSpPr>
        <p:spPr>
          <a:xfrm>
            <a:off x="5076720" y="1341360"/>
            <a:ext cx="3743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خامسا: إيرادات العقو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2484360" y="1052640"/>
            <a:ext cx="4275360" cy="4608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إيرادات العقود</a:t>
            </a:r>
            <a:r>
              <a:rPr b="1" lang="ar-EG" sz="2800" spc="-1" strike="noStrike">
                <a:solidFill>
                  <a:srgbClr val="ffff00"/>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قيمة الأصلية</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عديل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مطالب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حوافز</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755640" y="1557360"/>
            <a:ext cx="7704000" cy="345744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م قياس إيرادات العقود بالقيمة العادلة للمقابل الذى تم أو سيتم استلامه ، ويتأثر قياس إيرادات العقد بالعديد من عوامل عدم التأكد والتى تتوقف على نتائج الأحداث المستقبلية ، ويجب إعادة النظر فى تقدير هذا الإيراد فى ضوء الأحداث التى تقع وفى ضوء تكشف عوامل عدم التأكد ، ولذلك فإن قيمة الإيرادات من العقد يمكن أن تزيد أو تنقص من فترة إلى أخر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395280" y="1197000"/>
          <a:ext cx="8424720" cy="4110120"/>
        </p:xfrm>
        <a:graphic>
          <a:graphicData uri="http://schemas.openxmlformats.org/drawingml/2006/table">
            <a:tbl>
              <a:tblPr/>
              <a:tblGrid>
                <a:gridCol w="2885400"/>
                <a:gridCol w="2397240"/>
                <a:gridCol w="2071800"/>
                <a:gridCol w="10702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حوافز</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مطالب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تعديل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بيان</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الغ إضافية تدفع للمقاول لوصوله لمعايير معينة او بما يزيد عنها كحالة أو كحالة أن ينص العقد على استحقاق المقاول لحوافز عند الانتهاء المبكر من المقاول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لغ يسعى المقاول لتحصيله من العميل أو من طرف آخر كاسترداد لتكلفة لم تكن تتضمنها قيمة العقد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أمرمن العميل للمقاول بتعديل نطاق العمل وقد يؤدى الى نقص أو زيا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تعريف</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إنتهاء المبكر من العم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لتسبب العميل فى تأخير العمل  أو وجود أخطاء فى التصميم أوالمواصفات أو خلافات على بعض التعديلات</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تغيير المواصفات الفنية أو تغيير م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ثا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1" name=""/>
          <p:cNvGraphicFramePr/>
          <p:nvPr/>
        </p:nvGraphicFramePr>
        <p:xfrm>
          <a:off x="468360" y="692280"/>
          <a:ext cx="8229600" cy="4811760"/>
        </p:xfrm>
        <a:graphic>
          <a:graphicData uri="http://schemas.openxmlformats.org/drawingml/2006/table">
            <a:tbl>
              <a:tblPr/>
              <a:tblGrid>
                <a:gridCol w="2170080"/>
                <a:gridCol w="2521080"/>
                <a:gridCol w="2663640"/>
                <a:gridCol w="87480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وافز</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طالب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تعديل العقد</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بيان</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1160">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حوافز فى إيرادات العقد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يكون العقد فى مرحلة متقدمة مما يزيد من التأكد من أن الأداء موضوع هذا الحافز قد وصل إلى المعايير المحددة أو زاد عنها.</a:t>
                      </a:r>
                      <a:r>
                        <a:rPr b="0" lang="ar-EG"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يمكن قياس قيمة هذه الحوافز بطريقة يعتمد علي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خضع قياس مبلغ الايراد الناتج عن هذه المطالبات دائما لدرجة عالية من عدم التأكد ويتوقف غالبا على نتائج المفاوضات.  لذلك يعرف بها كإيرادات فى الحالات التالية:</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وصول المفاوضات مع العميل إلى مرحلة متقدمة تبين أنه من المحتمل أن العميل سوف يقبل سداد هذه المطالبات.</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قيمة المطالبة التى من المنتظر أن يقبلها العميل يمكن قياسها بدرجة موثوق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تعديلات للإيرادات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أ) يكون هناك احتمال مؤكد بأن العميل سوف يعتمد هذه التعديلات وقيمة الإيرادات المتولدة منه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أ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يمكن قياس قيمة الإيرادات الناتجة عن تنفيذ التعديلات المذكورة قياساً يمكن الاعتماد عليه.</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الإعتراف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7885080" y="2924280"/>
            <a:ext cx="830160" cy="1412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أول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هدف المعيار</a:t>
            </a:r>
            <a:endParaRPr b="0" lang="en-US" sz="1400" spc="-1" strike="noStrike">
              <a:solidFill>
                <a:srgbClr val="ffffff"/>
              </a:solidFill>
              <a:latin typeface="Times New Roman"/>
            </a:endParaRPr>
          </a:p>
        </p:txBody>
      </p:sp>
      <p:sp>
        <p:nvSpPr>
          <p:cNvPr id="124" name=""/>
          <p:cNvSpPr/>
          <p:nvPr/>
        </p:nvSpPr>
        <p:spPr>
          <a:xfrm>
            <a:off x="6732720" y="2924280"/>
            <a:ext cx="792000" cy="1439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ني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نطاق المعيار</a:t>
            </a:r>
            <a:endParaRPr b="0" lang="en-US" sz="1400" spc="-1" strike="noStrike">
              <a:solidFill>
                <a:srgbClr val="ffffff"/>
              </a:solidFill>
              <a:latin typeface="Times New Roman"/>
            </a:endParaRPr>
          </a:p>
        </p:txBody>
      </p:sp>
      <p:sp>
        <p:nvSpPr>
          <p:cNvPr id="125" name=""/>
          <p:cNvSpPr/>
          <p:nvPr/>
        </p:nvSpPr>
        <p:spPr>
          <a:xfrm>
            <a:off x="5435640" y="2924280"/>
            <a:ext cx="792000" cy="136836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لث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عريفات</a:t>
            </a:r>
            <a:endParaRPr b="0" lang="en-US" sz="1400" spc="-1" strike="noStrike">
              <a:solidFill>
                <a:srgbClr val="ffffff"/>
              </a:solidFill>
              <a:latin typeface="Times New Roman"/>
            </a:endParaRPr>
          </a:p>
        </p:txBody>
      </p:sp>
      <p:sp>
        <p:nvSpPr>
          <p:cNvPr id="126" name=""/>
          <p:cNvSpPr/>
          <p:nvPr/>
        </p:nvSpPr>
        <p:spPr>
          <a:xfrm>
            <a:off x="4067280" y="2852640"/>
            <a:ext cx="79200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رابع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جميع وفصل عقود الإنشاءات</a:t>
            </a:r>
            <a:endParaRPr b="0" lang="en-US" sz="1400" spc="-1" strike="noStrike">
              <a:solidFill>
                <a:srgbClr val="ffffff"/>
              </a:solidFill>
              <a:latin typeface="Times New Roman"/>
            </a:endParaRPr>
          </a:p>
        </p:txBody>
      </p:sp>
      <p:sp>
        <p:nvSpPr>
          <p:cNvPr id="127" name=""/>
          <p:cNvSpPr/>
          <p:nvPr/>
        </p:nvSpPr>
        <p:spPr>
          <a:xfrm>
            <a:off x="277164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خام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ايرادات العقود</a:t>
            </a:r>
            <a:endParaRPr b="0" lang="en-US" sz="1400" spc="-1" strike="noStrike">
              <a:solidFill>
                <a:srgbClr val="ffffff"/>
              </a:solidFill>
              <a:latin typeface="Times New Roman"/>
            </a:endParaRPr>
          </a:p>
        </p:txBody>
      </p:sp>
      <p:sp>
        <p:nvSpPr>
          <p:cNvPr id="128" name=""/>
          <p:cNvSpPr/>
          <p:nvPr/>
        </p:nvSpPr>
        <p:spPr>
          <a:xfrm>
            <a:off x="118728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ساد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كلفة العقود</a:t>
            </a:r>
            <a:endParaRPr b="0" lang="en-US" sz="1400" spc="-1" strike="noStrike">
              <a:solidFill>
                <a:srgbClr val="ffffff"/>
              </a:solidFill>
              <a:latin typeface="Times New Roman"/>
            </a:endParaRPr>
          </a:p>
        </p:txBody>
      </p:sp>
      <p:sp>
        <p:nvSpPr>
          <p:cNvPr id="129" name=""/>
          <p:cNvSpPr/>
          <p:nvPr/>
        </p:nvSpPr>
        <p:spPr>
          <a:xfrm>
            <a:off x="2627280" y="765000"/>
            <a:ext cx="4229280" cy="1592280"/>
          </a:xfrm>
          <a:prstGeom prst="wedgeRoundRectCallout">
            <a:avLst>
              <a:gd name="adj1" fmla="val -28587"/>
              <a:gd name="adj2" fmla="val 27777"/>
              <a:gd name="adj3" fmla="val 16667"/>
            </a:avLst>
          </a:prstGeom>
          <a:noFill/>
          <a:ln w="6048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عيار المحاسبة المصرى رقم (</a:t>
            </a:r>
            <a:r>
              <a:rPr b="1" lang="ar-SA" sz="2400" spc="-1" strike="noStrike">
                <a:solidFill>
                  <a:srgbClr val="ffffff"/>
                </a:solidFill>
                <a:latin typeface="Times New Roman"/>
                <a:ea typeface="Simplified Arabic"/>
              </a:rPr>
              <a:t>8</a:t>
            </a:r>
            <a:r>
              <a:rPr b="1" lang="ar-SA" sz="2400" spc="-1" strike="noStrike">
                <a:solidFill>
                  <a:srgbClr val="ffffff"/>
                </a:solidFill>
                <a:latin typeface="Times New Roman"/>
                <a:ea typeface="Simplified Arabic"/>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IAS 11</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عقود الإنشاء</a:t>
            </a:r>
            <a:endParaRPr b="0" lang="en-US" sz="2400" spc="-1" strike="noStrike">
              <a:solidFill>
                <a:srgbClr val="ffffff"/>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3276720" y="476280"/>
            <a:ext cx="3124080" cy="1714320"/>
          </a:xfrm>
          <a:prstGeom prst="rect">
            <a:avLst/>
          </a:prstGeom>
          <a:noFill/>
          <a:ln w="28440">
            <a:solidFill>
              <a:srgbClr val="ffff00"/>
            </a:solidFill>
            <a:miter/>
          </a:ln>
        </p:spPr>
        <p:style>
          <a:lnRef idx="0"/>
          <a:fillRef idx="0"/>
          <a:effectRef idx="0"/>
          <a:fontRef idx="minor"/>
        </p:style>
        <p:txBody>
          <a:bodyPr lIns="108000" rIns="108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سادسا</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تكلفة العقود</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u="sng">
                <a:solidFill>
                  <a:srgbClr val="ffffff"/>
                </a:solidFill>
                <a:uFillTx/>
                <a:latin typeface="Times New Roman"/>
                <a:cs typeface="Simplified Arabic"/>
              </a:rPr>
              <a:t>يجب أن تتضمن تكلفة العقد ما يلي:</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أ) كافة التكاليف المتعلقة مباشرة بالعقد المحد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ب) التكاليف المتعلقة بنشاط العقود عامة والتى يمكن تحميلها على العق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ج) التكاليف الأخرى والتى يمكن تحميلها للعميل طبقاً لنصوص العقد.</a:t>
            </a:r>
            <a:endParaRPr b="0" lang="en-US" sz="1000" spc="-1" strike="noStrike">
              <a:solidFill>
                <a:srgbClr val="ffffff"/>
              </a:solidFill>
              <a:latin typeface="Times New Roman"/>
            </a:endParaRPr>
          </a:p>
        </p:txBody>
      </p:sp>
      <p:sp>
        <p:nvSpPr>
          <p:cNvPr id="163" name=""/>
          <p:cNvSpPr/>
          <p:nvPr/>
        </p:nvSpPr>
        <p:spPr>
          <a:xfrm>
            <a:off x="4859280" y="2763720"/>
            <a:ext cx="4033800" cy="240048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أ- تتضمن التكاليف المتعلقة مباشرة بالعقد المحدد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تكلفة العاملين بالموقع شاملة تكاليف الإشراف.</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لفة المواد المستخدمة فى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إهلاك الأصول الثابتة المستخدمة فى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د) تكلفة نقل الأصول الثابتة والمواد من وإلى موقع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هـ) تكلفة استئجار الأصول الثابت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و) تكلفة التصميمات الهندسية والمعاونة الفنية المتصلة مباشرة ب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ز) التكاليف التقديرية لأعمال الضمان بما فى ذلك التكاليف المتوقعة للصيانة خلال فترة الضمان .</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ح) المطالبات من الأطراف الأخرى.</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يمكن أن تخفض هذه التكاليف بالإيرادات العارضة التى تتحقق والتى لم تحسب ضمن بنود إيرادات العقد مثل بيع المواد الزائدة والأرباح الناتجة عن بيع الأصول الثابتة فى نهاية عقد المقاولة.</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4" name=""/>
          <p:cNvSpPr/>
          <p:nvPr/>
        </p:nvSpPr>
        <p:spPr>
          <a:xfrm>
            <a:off x="324000" y="2763720"/>
            <a:ext cx="4152600" cy="2400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ب- تتضمن التكاليف المتعلقة بنشاط العقود عامة والتى يمكن تحميلها على عقود محددة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التأم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اليف التصميمات والمعاونة الفنية والتى لا تتعلق بعقد مع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يتم توزيع هذه التكاليف بطريقة منتظمة ومنطقية بصفة مستمرة على كافة التكاليف التى لها نفس الخصائص، وتتم عملية التحميل فى ضوء المستوى العادي لنشاط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00"/>
                </a:solidFill>
                <a:latin typeface="Times New Roman"/>
                <a:cs typeface="Simplified Arabic"/>
              </a:rPr>
              <a:t>ومن أمثلة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تكاليف إعداد وتنفيذ كشوف مرتبات الأفراد العاملين فى المقاولة ، وتعتبر تكاليف الاقتراض من أمثلة التكاليف المتعلقة بنشاط العقود عامة والتى يمكن تحميلها على عقود بعينها وذلك عند قيام المقاول بتطبيق المعالجة البديلة الواردة فى معيار المحاسبة المصرى رقم (</a:t>
            </a:r>
            <a:r>
              <a:rPr b="1" lang="ar-SA" sz="1000" spc="-1" strike="noStrike">
                <a:solidFill>
                  <a:srgbClr val="ffffff"/>
                </a:solidFill>
                <a:latin typeface="Times New Roman"/>
                <a:ea typeface="Simplified Arabic"/>
              </a:rPr>
              <a:t>14</a:t>
            </a:r>
            <a:r>
              <a:rPr b="1" lang="ar-SA" sz="1000" spc="-1" strike="noStrike">
                <a:solidFill>
                  <a:srgbClr val="ffffff"/>
                </a:solidFill>
                <a:latin typeface="Times New Roman"/>
                <a:ea typeface="Simplified Arabic"/>
              </a:rPr>
              <a:t>) الخاص بتكلفة الاقتراض.</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5" name=""/>
          <p:cNvSpPr/>
          <p:nvPr/>
        </p:nvSpPr>
        <p:spPr>
          <a:xfrm>
            <a:off x="2411280" y="5373720"/>
            <a:ext cx="4419720" cy="914400"/>
          </a:xfrm>
          <a:prstGeom prst="rect">
            <a:avLst/>
          </a:prstGeom>
          <a:noFill/>
          <a:ln w="0">
            <a:noFill/>
          </a:ln>
        </p:spPr>
        <p:style>
          <a:lnRef idx="0"/>
          <a:fillRef idx="0"/>
          <a:effectRef idx="0"/>
          <a:fontRef idx="minor"/>
        </p:style>
        <p:txBody>
          <a:bodyPr lIns="90000" rIns="90000" tIns="46800" bIns="46800" anchor="t">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81080" indent="-181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ج- تتضمن التكاليف التى يمكن تحميلها للعميل طبقاً لنصوص العقد بعض التكاليف الإدارية العامة أو تكاليف التطوير والتى نص العقد تحديداً على استردادها.</a:t>
            </a:r>
            <a:endParaRPr b="0" lang="en-US" sz="1000" spc="-1" strike="noStrike">
              <a:solidFill>
                <a:srgbClr val="ffffff"/>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6" name=""/>
          <p:cNvSpPr/>
          <p:nvPr/>
        </p:nvSpPr>
        <p:spPr>
          <a:xfrm>
            <a:off x="6372360" y="148428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1835280" y="141300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12000" y="1484280"/>
            <a:ext cx="0" cy="1028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572000" y="2205000"/>
            <a:ext cx="19080" cy="3301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835280" y="1413000"/>
            <a:ext cx="0" cy="1028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395280" y="2492280"/>
            <a:ext cx="7921800" cy="3024360"/>
          </a:xfrm>
          <a:prstGeom prst="rect">
            <a:avLst/>
          </a:prstGeom>
          <a:noFill/>
          <a:ln w="0">
            <a:noFill/>
          </a:ln>
        </p:spPr>
        <p:style>
          <a:lnRef idx="0"/>
          <a:fillRef idx="0"/>
          <a:effectRef idx="0"/>
          <a:fontRef idx="minor"/>
        </p:style>
        <p:txBody>
          <a:bodyPr lIns="18000" rIns="18000" tIns="46800" bIns="46800" anchor="t">
            <a:noAutofit/>
          </a:bodyPr>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أ</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ea typeface="Simplified Arabic"/>
              </a:rPr>
              <a:t>) التكاليف الإدارية العامة التى لم يرد نص صريح فى العقد على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ب)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يع.</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ج)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حوث والتطوير والتى لم يرد نص فى العقد على إمكانية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د)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إهلاك للآلات والمعدات المعطلة والتى لم تستخدم فى عقد معين.</a:t>
            </a: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395280" y="1052640"/>
            <a:ext cx="7921800" cy="172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كاليف الواجب إستبعاد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استبعاد التكاليف التى لا تتعلق بنشاط العقود أو التى لا يمكن تحميلها على العقد وذلك من تكاليف عقد الإنشاء ،  وتتضمن هذه تكاليف ما يل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395280" y="1413000"/>
            <a:ext cx="8136000" cy="424800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دخل ضمن تكاليف العقد تلك التكاليف المرتبطة به وذلك خلال الفترة من تاريخ تأكد الحصول على التعاقد إلى تاريخ إتمام هذا العقد ، ومع هذا فإن التكاليف التى تكبدها المقاول خلال الفترة السابقة لتأكد حصوله على العقد والمتعلقة مباشرة به يتم تضمينها كجزء من تكلفة العقد إذا كان يمكن تحديدها وقياسها بدرجة يمكن الاعتماد عليها ، وذلك فى حالة اذا كان من المحتمل الحصول على التعاقد وعند إثبات التكاليف المتعلقة بالحصول على العقد كمصروف خلال الفترة التى أنفقت فيها خلالها ، فإنه يجوز تضمين هذه التكاليف ضمن تكاليف العقد عند الحصول عليه فى فترة لاحق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700360" y="836640"/>
            <a:ext cx="4228920" cy="685800"/>
          </a:xfrm>
          <a:prstGeom prst="rect">
            <a:avLst/>
          </a:prstGeom>
          <a:noFill/>
          <a:ln w="3168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rPr>
              <a:t>سابعا</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rPr>
              <a:t>تحقق إيراد العقد ومصروفاته</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5" name=""/>
          <p:cNvSpPr/>
          <p:nvPr/>
        </p:nvSpPr>
        <p:spPr>
          <a:xfrm>
            <a:off x="5219640" y="2205000"/>
            <a:ext cx="367344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أولا</a:t>
            </a: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تقدير الناتج النهائي لعقد الإنشاء  قد تم بطريقة موثوق من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1116000" y="2205000"/>
            <a:ext cx="352728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ثاني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من غير الممكن تقدير الناتج النهائي من عقد الإنشاءات بدرجة مقبولة </a:t>
            </a:r>
            <a:endParaRPr b="0" lang="en-US" sz="2000" spc="-1" strike="noStrike">
              <a:solidFill>
                <a:srgbClr val="ffffff"/>
              </a:solidFill>
              <a:latin typeface="Times New Roman"/>
            </a:endParaRPr>
          </a:p>
        </p:txBody>
      </p:sp>
      <p:sp>
        <p:nvSpPr>
          <p:cNvPr id="177" name=""/>
          <p:cNvSpPr/>
          <p:nvPr/>
        </p:nvSpPr>
        <p:spPr>
          <a:xfrm>
            <a:off x="1908000" y="3933720"/>
            <a:ext cx="5975640" cy="20163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Times New Roman"/>
              </a:rPr>
              <a:t>أولا َ- فى حالة عندما يكون تقدير الناتج النهائي لعقد الإنشاء  قد تم بطريقة موثوق منها</a:t>
            </a:r>
            <a:r>
              <a:rPr b="1" lang="ar-EG" sz="1800" spc="-1" strike="noStrike" u="sng">
                <a:solidFill>
                  <a:srgbClr val="ffff00"/>
                </a:solidFill>
                <a:uFillTx/>
                <a:latin typeface="Times New Roman"/>
                <a:ea typeface="Arial"/>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ندما يكون تقدير الناتج النهائي لعقد الإنشاء  </a:t>
            </a:r>
            <a:r>
              <a:rPr b="1" lang="ar-SA" sz="1800" spc="-1" strike="noStrike">
                <a:solidFill>
                  <a:srgbClr val="ffff00"/>
                </a:solidFill>
                <a:latin typeface="Times New Roman"/>
                <a:cs typeface="Simplified Arabic"/>
              </a:rPr>
              <a:t>قد تم بطريقة موثوق منها ،</a:t>
            </a:r>
            <a:r>
              <a:rPr b="1" lang="ar-SA" sz="1800" spc="-1" strike="noStrike">
                <a:solidFill>
                  <a:srgbClr val="ffffff"/>
                </a:solidFill>
                <a:latin typeface="Times New Roman"/>
                <a:ea typeface="Simplified Arabic"/>
              </a:rPr>
              <a:t> فإن إيرادات العقد والتكاليف المتصلة به يمكن إدراجها كإيرادات وكمصروفات  على الترتيب وذلك فى ضوء </a:t>
            </a:r>
            <a:r>
              <a:rPr b="1" lang="ar-SA" sz="1800" spc="-1" strike="noStrike">
                <a:solidFill>
                  <a:srgbClr val="ffff00"/>
                </a:solidFill>
                <a:latin typeface="Times New Roman"/>
                <a:cs typeface="Simplified Arabic"/>
              </a:rPr>
              <a:t>مستوى الإتمام</a:t>
            </a:r>
            <a:r>
              <a:rPr b="1" lang="ar-SA" sz="1800" spc="-1" strike="noStrike">
                <a:solidFill>
                  <a:srgbClr val="ffffff"/>
                </a:solidFill>
                <a:latin typeface="Times New Roman"/>
                <a:ea typeface="Simplified Arabic"/>
              </a:rPr>
              <a:t> الذى وصل إليه نشاط العقد فى تاريخ الميزانية ، ويجب إدراج أية خسارة متوقعة فى عقد الإنشاء كمصروف فوراً طبقاً لما هو وارد فى الفقرة "</a:t>
            </a:r>
            <a:r>
              <a:rPr b="1" lang="ar-SA" sz="1800" spc="-1" strike="noStrike">
                <a:solidFill>
                  <a:srgbClr val="ffffff"/>
                </a:solidFill>
                <a:latin typeface="Times New Roman"/>
                <a:ea typeface="Simplified Arabic"/>
              </a:rPr>
              <a:t>35</a:t>
            </a:r>
            <a:r>
              <a:rPr b="1" lang="ar-SA" sz="1800" spc="-1" strike="noStrike">
                <a:solidFill>
                  <a:srgbClr val="ffffff"/>
                </a:solidFill>
                <a:latin typeface="Times New Roman"/>
                <a:ea typeface="Simplified Arabic"/>
              </a:rPr>
              <a:t>" من هذا المعيا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51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27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132000" y="476280"/>
          <a:ext cx="5478120" cy="504360"/>
        </p:xfrm>
        <a:graphic>
          <a:graphicData uri="http://schemas.openxmlformats.org/drawingml/2006/table">
            <a:tbl>
              <a:tblPr/>
              <a:tblGrid>
                <a:gridCol w="5478120"/>
              </a:tblGrid>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متى نبدأ فى الاعتراف بايراد وتكاليف العقد؟</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81" name=""/>
          <p:cNvGraphicFramePr/>
          <p:nvPr/>
        </p:nvGraphicFramePr>
        <p:xfrm>
          <a:off x="4643280" y="3789360"/>
          <a:ext cx="4038840" cy="2243160"/>
        </p:xfrm>
        <a:graphic>
          <a:graphicData uri="http://schemas.openxmlformats.org/drawingml/2006/table">
            <a:tbl>
              <a:tblPr/>
              <a:tblGrid>
                <a:gridCol w="4038840"/>
              </a:tblGrid>
              <a:tr h="459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 قياس الايراد الاجمالى للعقد بطريقة 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459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ية قياس التكاليف اللازمة لإتمام العقد ومستوى الإتمام الخاص به فى تاريخ الميزانية بطريقة موثوق في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التكلفة المتصلة بالعقد يمكن تحديدها بوضوح وقياسها بطريقة موثوق فيها، بحيث يكون من الممكن مقارنة التكاليف الفعلية التى أنفقت مع تلك التى تم تقدير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82" name=""/>
          <p:cNvSpPr/>
          <p:nvPr/>
        </p:nvSpPr>
        <p:spPr>
          <a:xfrm>
            <a:off x="971640" y="898920"/>
            <a:ext cx="763272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تم الاعتراف بايرادات وتكاليف العقد عندما يمكن تقدير الناتج النهائى لعقد الانشاء بطريقة موثوق فيها فى حالة توافر كل الشروط التالية لكل نوع من العقود التالية كلا على حده كالتالى:</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graphicFrame>
        <p:nvGraphicFramePr>
          <p:cNvPr id="183" name=""/>
          <p:cNvGraphicFramePr/>
          <p:nvPr/>
        </p:nvGraphicFramePr>
        <p:xfrm>
          <a:off x="684360" y="3860640"/>
          <a:ext cx="3816360" cy="1741680"/>
        </p:xfrm>
        <a:graphic>
          <a:graphicData uri="http://schemas.openxmlformats.org/drawingml/2006/table">
            <a:tbl>
              <a:tblPr/>
              <a:tblGrid>
                <a:gridCol w="3816360"/>
              </a:tblGrid>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التكاليف المتعلقة بالعقد سواء كانت قابلة أو غير قابلة للاسترداد يمكن تحديدها وقياسها بطريقة يعتمد عليها و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84" name=""/>
          <p:cNvSpPr/>
          <p:nvPr/>
        </p:nvSpPr>
        <p:spPr>
          <a:xfrm>
            <a:off x="3419640" y="2060640"/>
            <a:ext cx="2881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نوع المعيار</a:t>
            </a:r>
            <a:endParaRPr b="0" lang="en-US" sz="1800" spc="-1" strike="noStrike">
              <a:solidFill>
                <a:srgbClr val="ffffff"/>
              </a:solidFill>
              <a:latin typeface="Times New Roman"/>
            </a:endParaRPr>
          </a:p>
        </p:txBody>
      </p:sp>
      <p:sp>
        <p:nvSpPr>
          <p:cNvPr id="185" name=""/>
          <p:cNvSpPr/>
          <p:nvPr/>
        </p:nvSpPr>
        <p:spPr>
          <a:xfrm>
            <a:off x="4859280" y="2349360"/>
            <a:ext cx="0" cy="3589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a:off x="2411280" y="2708280"/>
            <a:ext cx="4824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236000" y="2708280"/>
            <a:ext cx="0" cy="5763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411280" y="2708280"/>
            <a:ext cx="0" cy="7207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227640" y="3357720"/>
            <a:ext cx="1944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ذو السعر المحدد</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90" name=""/>
          <p:cNvSpPr/>
          <p:nvPr/>
        </p:nvSpPr>
        <p:spPr>
          <a:xfrm>
            <a:off x="1547640" y="3500280"/>
            <a:ext cx="230364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بالتكلفة + نسبة</a:t>
            </a:r>
            <a:r>
              <a:rPr b="1" lang="en-US" sz="1400" spc="-1" strike="noStrike" u="sng">
                <a:solidFill>
                  <a:srgbClr val="ffffff"/>
                </a:solidFill>
                <a:uFillTx/>
                <a:latin typeface="Arial"/>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548480" y="2073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a:off x="7524720" y="2060280"/>
            <a:ext cx="23760" cy="12600"/>
          </a:xfrm>
          <a:prstGeom prst="line">
            <a:avLst/>
          </a:prstGeom>
          <a:ln cap="rnd"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95"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324000" y="1773360"/>
          <a:ext cx="8302320" cy="3681360"/>
        </p:xfrm>
        <a:graphic>
          <a:graphicData uri="http://schemas.openxmlformats.org/drawingml/2006/table">
            <a:tbl>
              <a:tblPr/>
              <a:tblGrid>
                <a:gridCol w="2323800"/>
                <a:gridCol w="1827360"/>
                <a:gridCol w="2401920"/>
                <a:gridCol w="1749240"/>
              </a:tblGrid>
              <a:tr h="73332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يتم تحديد نسبة إتمام العقد بطرق مختلفة وعلى المنشأة أن تستخدم الطريقة التى يمكن باتباعها قياس كمية ما تم إنجازه من العمل بدرجة موثوق بها. وطبقاً لطبيعة العقد فإن هذه الطرق قد تتضمن:</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ديد نسبة الإتمام</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marL="266760" indent="-26676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ج) ما تم إنجازه فعلياً من أعمال العقد.</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ب) حصر الأعمال المنفذة.</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أ) نسبة التكلفة المنفقة على العمل المنجز حتى تاريخه إلى إجمالى التكاليف المقدرة للعقد كل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595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فى ظل طريقة نسبة الإتمام فإن الإيراد يعتبر قد تحقق ويدرج ضمن الإيرادات فى قائمة الدخل عن الفترة التى تم فيها تنفيذ الأعمال ، كما أن تكاليف العقد تدرج عادة كمصروفات فى قائمة الدخل عن ذات الفترة المحاسبية التى تم خلالها إنجاز هذه الأعمال ، ومع ذلك فإن أية زيادة متوقعة فى إجمالى تكلفة العقد عن إجمالى إيراداته يجب إثباتها فوراً كمصروف طبقاً لما هو وارد فى الفقرة "</a:t>
                      </a:r>
                      <a:r>
                        <a:rPr b="0" lang="ar-EG" sz="1400" spc="-1" strike="noStrike">
                          <a:solidFill>
                            <a:srgbClr val="ffffff"/>
                          </a:solidFill>
                          <a:latin typeface="Arial"/>
                          <a:ea typeface="Arial"/>
                        </a:rPr>
                        <a:t>35</a:t>
                      </a:r>
                      <a:r>
                        <a:rPr b="0" lang="ar-EG" sz="1400" spc="-1" strike="noStrike">
                          <a:solidFill>
                            <a:srgbClr val="ffffff"/>
                          </a:solidFill>
                          <a:latin typeface="Arial"/>
                          <a:ea typeface="Arial"/>
                        </a:rPr>
                        <a:t>" من هذا المعيار.</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قق الايراد والمصروفات</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6743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عندما يتم تحديد مستوى الإتمام بالاعتماد على ما تم تحمله من تكاليف العقد حتى تاريخه ، فإن تلك التكاليف يجب ألا تتضمن سوى التكاليف التى تعكس العمل المؤدى فقط وبالتالي فإن بعض التكاليف يجب استبعادها ومثال ذلك:</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أ) التكاليف المتعلقة بأنشطة أو أعمال مستقبلية مثل التشوينات الموجودة فى موقع العملية أو التى خصصت للعملية ولكن لم تركب أو تستخدم بعد ، إلا إذا كانت هذه التشوينات قد صنعت خصيصاً لهذا العقد.</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ب) الدفعات المقدمة لمقاولي الباطن عن الأعمال المنفذة طبقاً لعقود الباطن.</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00" name=""/>
          <p:cNvSpPr/>
          <p:nvPr/>
        </p:nvSpPr>
        <p:spPr>
          <a:xfrm>
            <a:off x="1547640" y="907920"/>
            <a:ext cx="5904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اعتراف بالايرادات والمصروفات باستخدام نسبة الاتما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900000" y="1526040"/>
            <a:ext cx="735804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تكبد المقاول تكاليف تتعلق بنشاط مستقبلي للعقد ، ويمكن الاعتراف بهذه التكاليف كأصول عندما يكون من المحتمل تغطية هذه التكلفة ، وتعتبر هذه التكاليف مستحقات على العميل وغالباً يتم تبويبها كأعمال تحت التنفي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611280" y="1205280"/>
            <a:ext cx="7705800" cy="4359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تقدير الناتج النهائي لعقد الإنشاء بطريقة موثوق فيها إذا كان من المحتمل أن تتحقق للمنشأة المنافع الاقتصادية المتعلقة بتنفيذ العقد، ومع ذلك فإنه فى حالة ظهور شك فى إمكانية تحصيل أية مبالغ سبق إدراجها كإيرادات للعقد فى قائمة الدخل فإنه يجب إدراج المبلغ المشكوك فى تحصيله كمصروف بدلا من اعتباره تخفيضاً لقيمة إيرادات العقد.</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
          <p:cNvSpPr/>
          <p:nvPr/>
        </p:nvSpPr>
        <p:spPr>
          <a:xfrm>
            <a:off x="611280" y="1261800"/>
            <a:ext cx="7921440" cy="3933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للمنشأة بصفة عامة أن تعد تقديرات موثوق فيها إذا كان العقد ينص على الآت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ea typeface="Arial"/>
              </a:rPr>
              <a:t>   </a:t>
            </a:r>
            <a:r>
              <a:rPr b="0"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 حقوق الأطراف فيما يتعلق بالأصل الذى تم إنشاؤ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قابل الذى سيتم تبادل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يقة وشروط السداد.</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غالبا ما يكون من الضروري أن يكون لدى المنشأة نظام داخلي فعال للميزانيات التقديرية وإصدار التقاري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95280" y="1589040"/>
            <a:ext cx="7993080" cy="119124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فى حالة عندما يكون من غير الممكن تقدير الناتج النهائي من عقد الإنشاءات بدرجة مقبولة فيجب:</a:t>
            </a:r>
            <a:endParaRPr b="0" lang="en-US" sz="2400" spc="-1" strike="noStrike">
              <a:solidFill>
                <a:srgbClr val="ffffff"/>
              </a:solidFill>
              <a:latin typeface="Times New Roman"/>
            </a:endParaRPr>
          </a:p>
        </p:txBody>
      </p:sp>
      <p:sp>
        <p:nvSpPr>
          <p:cNvPr id="205" name=""/>
          <p:cNvSpPr/>
          <p:nvPr/>
        </p:nvSpPr>
        <p:spPr>
          <a:xfrm>
            <a:off x="539640" y="4365720"/>
            <a:ext cx="784872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الاعتراف بالخسائر المتوقعة فى عقد المقاولة فوراً كمصروف وذلك طبقاً للفقرة "</a:t>
            </a:r>
            <a:r>
              <a:rPr b="1" lang="ar-SA" sz="2400" spc="-1" strike="noStrike">
                <a:solidFill>
                  <a:srgbClr val="ffffff"/>
                </a:solidFill>
                <a:latin typeface="Arial"/>
                <a:ea typeface="Arial"/>
              </a:rPr>
              <a:t>35</a:t>
            </a:r>
            <a:r>
              <a:rPr b="1" lang="ar-SA" sz="2400" spc="-1" strike="noStrike">
                <a:solidFill>
                  <a:srgbClr val="ffffff"/>
                </a:solidFill>
                <a:latin typeface="Arial"/>
                <a:ea typeface="Arial"/>
              </a:rPr>
              <a:t>" من هذا المعيار .</a:t>
            </a:r>
            <a:endParaRPr b="0" lang="en-US" sz="2400" spc="-1" strike="noStrike">
              <a:solidFill>
                <a:srgbClr val="ffffff"/>
              </a:solidFill>
              <a:latin typeface="Times New Roman"/>
            </a:endParaRPr>
          </a:p>
        </p:txBody>
      </p:sp>
      <p:sp>
        <p:nvSpPr>
          <p:cNvPr id="206" name=""/>
          <p:cNvSpPr/>
          <p:nvPr/>
        </p:nvSpPr>
        <p:spPr>
          <a:xfrm>
            <a:off x="826920" y="2924280"/>
            <a:ext cx="751716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عدم الاعتراف بالإيرادات إلا فى حدود تكاليف العقد التى أنفقت والتى يكون من المتوقع استردادها.</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ثبات كافة تكاليف العقد كمصروفات فى الفترة التى أنفقت ف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7020000" y="2565360"/>
            <a:ext cx="1150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ساب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تحقق إيراد العقد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ومصروفاته</a:t>
            </a:r>
            <a:endParaRPr b="0" lang="en-US" sz="1800" spc="-1" strike="noStrike">
              <a:solidFill>
                <a:srgbClr val="ffffff"/>
              </a:solidFill>
              <a:latin typeface="Times New Roman"/>
            </a:endParaRPr>
          </a:p>
        </p:txBody>
      </p:sp>
      <p:sp>
        <p:nvSpPr>
          <p:cNvPr id="131" name=""/>
          <p:cNvSpPr/>
          <p:nvPr/>
        </p:nvSpPr>
        <p:spPr>
          <a:xfrm>
            <a:off x="543564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ثامن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ثبات الخسائر المتوقع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
          <p:cNvSpPr/>
          <p:nvPr/>
        </p:nvSpPr>
        <p:spPr>
          <a:xfrm>
            <a:off x="406728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تاس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تغيير فى التقديرات</a:t>
            </a:r>
            <a:endParaRPr b="0" lang="en-US" sz="1800" spc="-1" strike="noStrike">
              <a:solidFill>
                <a:srgbClr val="ffffff"/>
              </a:solidFill>
              <a:latin typeface="Times New Roman"/>
            </a:endParaRPr>
          </a:p>
        </p:txBody>
      </p:sp>
      <p:sp>
        <p:nvSpPr>
          <p:cNvPr id="133" name=""/>
          <p:cNvSpPr/>
          <p:nvPr/>
        </p:nvSpPr>
        <p:spPr>
          <a:xfrm>
            <a:off x="2771640" y="2565360"/>
            <a:ext cx="101628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عاشر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افصاح</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1258920" y="2565360"/>
            <a:ext cx="1231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حادى عشر</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حال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عمل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042920" y="2617920"/>
            <a:ext cx="7021440" cy="2533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لم تصبح بعد ملزمة بالكامل أى التى يثار تساؤل جاد حول مدى سريانها.</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ب) يتوقف استكمالها على حكم قضائي أو موقف قانوني.</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ج) المتعلقة بعقارات معرضة للمصادرة أو نزع الملك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 يكون فيها العميل غير قادر على الوفاء بالتزامات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هـ) يكون المقاول فيها غير قادر على تنفيذ العقد أو غير قادر على الوفاء بالتزاماته طبقاً للعقد.</a:t>
            </a:r>
            <a:endParaRPr b="0" lang="en-US" sz="2000" spc="-1" strike="noStrike">
              <a:solidFill>
                <a:srgbClr val="ffffff"/>
              </a:solidFill>
              <a:latin typeface="Times New Roman"/>
            </a:endParaRPr>
          </a:p>
        </p:txBody>
      </p:sp>
      <p:sp>
        <p:nvSpPr>
          <p:cNvPr id="208" name=""/>
          <p:cNvSpPr/>
          <p:nvPr/>
        </p:nvSpPr>
        <p:spPr>
          <a:xfrm>
            <a:off x="826920" y="1773360"/>
            <a:ext cx="7272360" cy="1313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جب أن تحمل تكاليف العقد التى يكون من غير المحتمل تغطيتها كمصروفات فوراً ، ومن أمثلة الحالات التى قد لا يحتمل تغطية تكاليف العقد فيها والتى يجب حينئذ إثباتها كمصروفات فوراً تلك العقود الت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
          <p:cNvSpPr/>
          <p:nvPr/>
        </p:nvSpPr>
        <p:spPr>
          <a:xfrm>
            <a:off x="971640" y="2210040"/>
            <a:ext cx="7056360" cy="2226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ند زوال ظروف عدم التأكد التى حالت دون إمكانية التقدير الموثوق به للناتج النهائي للعقد، يكون من الواجب الاعتراف بتحقق الإيرادات والمصروفات الخاصة بعقد الإنشاء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826920" y="2051280"/>
            <a:ext cx="7417080" cy="25333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دما يك</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ون هن</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ك احتم</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ل أن تزي</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د اجمالى التكلفة المتوقع</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ة للعقد عن إجمال</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ى الإيرادات</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متوقعة منه يجب إثبات الخسارة المتوقعة كمصروف فوراً.</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تحدد قيمة هذه الخسائر بغض النظر عن:</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ما إذا كانت الأعمال قد بدأت فى تنفيذ العقد أم لا .</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ب)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رجة الإتمام التى بلغها تنفيذ العقد.</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ج)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قيمة الأرباح المتوقع تحقيقها من عقود أخرى لم تعالج كعقد إنشاءات واحد طبقاً للفقرة "</a:t>
            </a:r>
            <a:r>
              <a:rPr b="1" lang="ar-SA" sz="2000" spc="-1" strike="noStrike">
                <a:solidFill>
                  <a:srgbClr val="ffffff"/>
                </a:solidFill>
                <a:latin typeface="Arial"/>
                <a:ea typeface="Arial"/>
              </a:rPr>
              <a:t>8</a:t>
            </a:r>
            <a:r>
              <a:rPr b="1" lang="ar-SA" sz="2000" spc="-1" strike="noStrike">
                <a:solidFill>
                  <a:srgbClr val="ffffff"/>
                </a:solidFill>
                <a:latin typeface="Arial"/>
                <a:ea typeface="Arial"/>
              </a:rPr>
              <a:t>" من هذا المعيار.</a:t>
            </a:r>
            <a:endParaRPr b="0" lang="en-US" sz="2000" spc="-1" strike="noStrike">
              <a:solidFill>
                <a:srgbClr val="ffffff"/>
              </a:solidFill>
              <a:latin typeface="Times New Roman"/>
            </a:endParaRPr>
          </a:p>
        </p:txBody>
      </p:sp>
      <p:sp>
        <p:nvSpPr>
          <p:cNvPr id="211" name=""/>
          <p:cNvSpPr/>
          <p:nvPr/>
        </p:nvSpPr>
        <p:spPr>
          <a:xfrm>
            <a:off x="3232800" y="1268280"/>
            <a:ext cx="5949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منا : إثبات الخسائر المتوقع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395280" y="1254600"/>
            <a:ext cx="83520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طبق طريقة نسبة الإتمام على أساس تجميعي فى كل فترة محاسبية وذلك بالنسبة للتقديرات الجارية لكل من إيرادات العقد وتكلفته ، لذلك فإن التغيير فى التقدير سواء للإيرادات أو التكلفة وكذلك آثار التغيير فى تقدير الناتج النهائي للعقد يجب معالجته على أنه </a:t>
            </a:r>
            <a:r>
              <a:rPr b="1" lang="ar-SA" sz="2400" spc="-1" strike="noStrike">
                <a:solidFill>
                  <a:srgbClr val="ffff00"/>
                </a:solidFill>
                <a:latin typeface="Arial"/>
                <a:cs typeface="Arial"/>
              </a:rPr>
              <a:t>تغيير فى التقدير المحاسبي (انظر معيار المحاسبة المصري رقم (</a:t>
            </a:r>
            <a:r>
              <a:rPr b="1" lang="ar-SA" sz="2400" spc="-1" strike="noStrike">
                <a:solidFill>
                  <a:srgbClr val="ffff00"/>
                </a:solidFill>
                <a:latin typeface="Arial"/>
                <a:ea typeface="Arial"/>
              </a:rPr>
              <a:t>5</a:t>
            </a:r>
            <a:r>
              <a:rPr b="1" lang="ar-SA" sz="2400" spc="-1" strike="noStrike">
                <a:solidFill>
                  <a:srgbClr val="ffff00"/>
                </a:solidFill>
                <a:latin typeface="Arial"/>
                <a:ea typeface="Arial"/>
              </a:rPr>
              <a:t>) الخاص بالسياسات المحاسبية والتغييرات فى التقديرات المحاسبية والأخطاء)</a:t>
            </a:r>
            <a:r>
              <a:rPr b="1" lang="ar-SA" sz="2400" spc="-1" strike="noStrike">
                <a:solidFill>
                  <a:srgbClr val="ffffff"/>
                </a:solidFill>
                <a:latin typeface="Arial"/>
                <a:ea typeface="Arial"/>
              </a:rPr>
              <a:t> وتستخدم التغييرات فى التقدير فى تحديد قيمة الإيرادات والمصروفات التى سيتم الاعتراف بها فى قائمة الدخل عن الفترة التى حدث فيها التغيير وفى الفترات التالية.</a:t>
            </a:r>
            <a:endParaRPr b="0" lang="en-US" sz="2400" spc="-1" strike="noStrike">
              <a:solidFill>
                <a:srgbClr val="ffffff"/>
              </a:solidFill>
              <a:latin typeface="Times New Roman"/>
            </a:endParaRPr>
          </a:p>
        </p:txBody>
      </p:sp>
      <p:sp>
        <p:nvSpPr>
          <p:cNvPr id="213" name=""/>
          <p:cNvSpPr/>
          <p:nvPr/>
        </p:nvSpPr>
        <p:spPr>
          <a:xfrm>
            <a:off x="3773880" y="1052640"/>
            <a:ext cx="6017760" cy="58140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اسعا: التغيرات فى التقدير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95280" y="1908360"/>
            <a:ext cx="8413920" cy="26542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أة الإفصاح عن:</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قيمة إيرادات العقود التى تم إدراجها كإيرادات عن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إيرادات العقود التى تم إدراجها ضمن إيرادات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مستوى الإتمام للعقود تحت التنفيذ.</a:t>
            </a:r>
            <a:endParaRPr b="0" lang="en-US" sz="2400" spc="-1" strike="noStrike">
              <a:solidFill>
                <a:srgbClr val="ffffff"/>
              </a:solidFill>
              <a:latin typeface="Times New Roman"/>
            </a:endParaRPr>
          </a:p>
        </p:txBody>
      </p:sp>
      <p:sp>
        <p:nvSpPr>
          <p:cNvPr id="215" name=""/>
          <p:cNvSpPr/>
          <p:nvPr/>
        </p:nvSpPr>
        <p:spPr>
          <a:xfrm>
            <a:off x="6300720" y="1557360"/>
            <a:ext cx="2533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عاشرا: الافصا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468360" y="2563200"/>
            <a:ext cx="8137440" cy="155700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إجمالى التكاليف المنفقة والأرباح المحققة (ناقصاً الخسائر المحققة) حتى تاريخه.</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إجمالى الدفعات المقدمة المحصلة.</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قيمة المبالغ المحتجزة طرف العملاء. </a:t>
            </a:r>
            <a:endParaRPr b="0" lang="en-US" sz="2400" spc="-1" strike="noStrike">
              <a:solidFill>
                <a:srgbClr val="ffffff"/>
              </a:solidFill>
              <a:latin typeface="Times New Roman"/>
            </a:endParaRPr>
          </a:p>
        </p:txBody>
      </p:sp>
      <p:sp>
        <p:nvSpPr>
          <p:cNvPr id="217" name=""/>
          <p:cNvSpPr/>
          <p:nvPr/>
        </p:nvSpPr>
        <p:spPr>
          <a:xfrm>
            <a:off x="539640" y="1341360"/>
            <a:ext cx="81378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الإفصاح عما يلي فيما يتعلق بالعقود تحت التنفيذ فى تاريخ الميزان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539640" y="4003920"/>
            <a:ext cx="8137800" cy="825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ctr" pos="281628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دفعات المقدم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دفعات المحصلة بمعرفة المقاول وذلك قبل تنفيذ الأعمال المتعلقة بها.</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219" name=""/>
          <p:cNvSpPr/>
          <p:nvPr/>
        </p:nvSpPr>
        <p:spPr>
          <a:xfrm>
            <a:off x="7236000" y="836640"/>
            <a:ext cx="1558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تعريفــــــات</a:t>
            </a:r>
            <a:endParaRPr b="0" lang="en-US" sz="2800" spc="-1" strike="noStrike">
              <a:solidFill>
                <a:srgbClr val="ffffff"/>
              </a:solidFill>
              <a:latin typeface="Times New Roman"/>
            </a:endParaRPr>
          </a:p>
        </p:txBody>
      </p:sp>
      <p:sp>
        <p:nvSpPr>
          <p:cNvPr id="220" name=""/>
          <p:cNvSpPr/>
          <p:nvPr/>
        </p:nvSpPr>
        <p:spPr>
          <a:xfrm>
            <a:off x="468360" y="1557360"/>
            <a:ext cx="8351640" cy="155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بالغ المحتجزة طرف العملاء</a:t>
            </a:r>
            <a:r>
              <a:rPr b="1" lang="ar-SA" sz="2400" spc="-1" strike="noStrike">
                <a:solidFill>
                  <a:srgbClr val="ffff00"/>
                </a:solidFill>
                <a:latin typeface="Arial"/>
                <a:ea typeface="Arial"/>
              </a:rPr>
              <a:t>:</a:t>
            </a:r>
            <a:r>
              <a:rPr b="1" lang="ar-EG" sz="2400" spc="-1" strike="noStrike">
                <a:solidFill>
                  <a:srgbClr val="ffff00"/>
                </a:solidFill>
                <a:latin typeface="Arial"/>
                <a:ea typeface="Arial"/>
              </a:rPr>
              <a:t>( التأمين)</a:t>
            </a:r>
            <a:r>
              <a:rPr b="1" lang="ar-SA" sz="2400" spc="-1" strike="noStrike">
                <a:solidFill>
                  <a:srgbClr val="ffffff"/>
                </a:solidFill>
                <a:latin typeface="Arial"/>
                <a:ea typeface="Arial"/>
              </a:rPr>
              <a:t> هي المبالغ التى تحجز من المستخلصات الدورية إلى حين التأكد من سلامة تنفيذ الشروط الواردة فى عقد التنفيذ أو إلى حين إصلاح العيوب. </a:t>
            </a:r>
            <a:endParaRPr b="0" lang="en-US" sz="2400" spc="-1" strike="noStrike">
              <a:solidFill>
                <a:srgbClr val="ffffff"/>
              </a:solidFill>
              <a:latin typeface="Times New Roman"/>
            </a:endParaRPr>
          </a:p>
        </p:txBody>
      </p:sp>
      <p:sp>
        <p:nvSpPr>
          <p:cNvPr id="221" name=""/>
          <p:cNvSpPr/>
          <p:nvPr/>
        </p:nvSpPr>
        <p:spPr>
          <a:xfrm>
            <a:off x="468360" y="2924280"/>
            <a:ext cx="8302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تخلصات الدوري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مبالغ المطلوبة عما تم من أعمال سواء دفعها العميل أو لم يدفعها بع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539640" y="3027960"/>
            <a:ext cx="7993080" cy="1922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جموع الخسائر المحقق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ب)</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جمالى المستخلصات الصادرة وذلك لكافة العقود تحت التنفيذ والتى تكون فيها التكاليف المنفقة مضافاً إليها الربح المحقق (ناقصاً الخسائر المحققة) تزيد عن قيمة المستخلصات.</a:t>
            </a:r>
            <a:endParaRPr b="0" lang="en-US" sz="2400" spc="-1" strike="noStrike">
              <a:solidFill>
                <a:srgbClr val="ffffff"/>
              </a:solidFill>
              <a:latin typeface="Times New Roman"/>
            </a:endParaRPr>
          </a:p>
        </p:txBody>
      </p:sp>
      <p:sp>
        <p:nvSpPr>
          <p:cNvPr id="223" name=""/>
          <p:cNvSpPr/>
          <p:nvPr/>
        </p:nvSpPr>
        <p:spPr>
          <a:xfrm>
            <a:off x="3574440" y="857160"/>
            <a:ext cx="6073920" cy="52056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أن تعرض ما يلي</a:t>
            </a:r>
            <a:endParaRPr b="0" lang="en-US" sz="2800" spc="-1" strike="noStrike">
              <a:solidFill>
                <a:srgbClr val="ffffff"/>
              </a:solidFill>
              <a:latin typeface="Times New Roman"/>
            </a:endParaRPr>
          </a:p>
        </p:txBody>
      </p:sp>
      <p:sp>
        <p:nvSpPr>
          <p:cNvPr id="224" name=""/>
          <p:cNvSpPr/>
          <p:nvPr/>
        </p:nvSpPr>
        <p:spPr>
          <a:xfrm>
            <a:off x="-1097280" y="1484280"/>
            <a:ext cx="11516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a:t>
            </a:r>
            <a:r>
              <a:rPr b="1" lang="ar-SA" sz="2400" spc="-1" strike="noStrike">
                <a:solidFill>
                  <a:srgbClr val="ffffff"/>
                </a:solidFill>
                <a:latin typeface="Arial"/>
                <a:ea typeface="Arial"/>
              </a:rPr>
              <a:t>- إجمالى المبالغ المستحقة على العملاء عن أعمال العقد كأصل ضمن الأصول.</a:t>
            </a:r>
            <a:endParaRPr b="0" lang="en-US" sz="2400" spc="-1" strike="noStrike">
              <a:solidFill>
                <a:srgbClr val="ffffff"/>
              </a:solidFill>
              <a:latin typeface="Times New Roman"/>
            </a:endParaRPr>
          </a:p>
        </p:txBody>
      </p:sp>
      <p:sp>
        <p:nvSpPr>
          <p:cNvPr id="225" name=""/>
          <p:cNvSpPr/>
          <p:nvPr/>
        </p:nvSpPr>
        <p:spPr>
          <a:xfrm>
            <a:off x="611280" y="2205000"/>
            <a:ext cx="7921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من ا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3635640"/>
            <a:ext cx="7848720" cy="16185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1" lang="ar-SA" sz="2000" spc="-1" strike="noStrike">
                <a:solidFill>
                  <a:srgbClr val="ffffff"/>
                </a:solidFill>
                <a:latin typeface="Arial"/>
                <a:ea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مجموع الخسائر المحققة. </a:t>
            </a:r>
            <a:endParaRPr b="0" lang="en-US" sz="20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ب) إجمالى المستخلصات الصادرة وذلك لكافة العقود تحت التنفيذ والتى تزيد فها المستخلصات الصادرة عن التكاليف المنفقة مضافا إليها الأرباح المحقة (ناقصا الخسائر المحققة) .</a:t>
            </a:r>
            <a:endParaRPr b="0" lang="en-US" sz="2000" spc="-1" strike="noStrike">
              <a:solidFill>
                <a:srgbClr val="ffffff"/>
              </a:solidFill>
              <a:latin typeface="Times New Roman"/>
            </a:endParaRPr>
          </a:p>
        </p:txBody>
      </p:sp>
      <p:sp>
        <p:nvSpPr>
          <p:cNvPr id="227" name=""/>
          <p:cNvSpPr/>
          <p:nvPr/>
        </p:nvSpPr>
        <p:spPr>
          <a:xfrm>
            <a:off x="-983880" y="2060640"/>
            <a:ext cx="11392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a:t>
            </a:r>
            <a:r>
              <a:rPr b="1" lang="ar-SA" sz="2400" spc="-1" strike="noStrike">
                <a:solidFill>
                  <a:srgbClr val="ffffff"/>
                </a:solidFill>
                <a:latin typeface="Arial"/>
                <a:ea typeface="Arial"/>
              </a:rPr>
              <a:t>- إجمالى المبالغ المستحقة للعملاء عن أعمال العقد كالتزام ضمن الالتزامات.</a:t>
            </a:r>
            <a:endParaRPr b="0" lang="en-US" sz="2400" spc="-1" strike="noStrike">
              <a:solidFill>
                <a:srgbClr val="ffffff"/>
              </a:solidFill>
              <a:latin typeface="Times New Roman"/>
            </a:endParaRPr>
          </a:p>
        </p:txBody>
      </p:sp>
      <p:sp>
        <p:nvSpPr>
          <p:cNvPr id="228" name=""/>
          <p:cNvSpPr/>
          <p:nvPr/>
        </p:nvSpPr>
        <p:spPr>
          <a:xfrm>
            <a:off x="539640" y="2708280"/>
            <a:ext cx="785196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ل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826920" y="1728000"/>
            <a:ext cx="7777440" cy="3080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على المنشأة الإفصاح عن أى ربح أو خسارة عرضية (طارئة) وذلك طبقاً لمعيار المحاسبة المصرى رقم (</a:t>
            </a:r>
            <a:r>
              <a:rPr b="1" lang="ar-SA" sz="2800" spc="-1" strike="noStrike">
                <a:solidFill>
                  <a:srgbClr val="ffffff"/>
                </a:solidFill>
                <a:latin typeface="Arial"/>
                <a:ea typeface="Arial"/>
              </a:rPr>
              <a:t>28</a:t>
            </a:r>
            <a:r>
              <a:rPr b="1" lang="ar-SA" sz="2800" spc="-1" strike="noStrike">
                <a:solidFill>
                  <a:srgbClr val="ffffff"/>
                </a:solidFill>
                <a:latin typeface="Arial"/>
                <a:ea typeface="Arial"/>
              </a:rPr>
              <a:t>) الخاص بالمخصصات و الأصول والالتزامات المحتملة  . وقد تنتج الأرباح أو الخسائر المحتملة عن بنود مثل تكلفة الضمان أو المطالبات أو الغرامات أو الخسائر الممكن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611280" y="1557360"/>
            <a:ext cx="7705800" cy="3456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يهدف هذا المعيار الى شرح  المعالجة المحاسبية للإيرادات والتكاليف المرتبطة بعقود الإنشاءات. وبسبب طبيعة الأنشطة التى تؤدى فى ظل عقود الإنشاءات يقع تاريخ التعاقد وتاريخ الانتهاء من العمل فى فترات مالية مختلفة. لذا فإن الموضوع الأساسي فى المحاسبة عن عقود الإنشاءات هو توزيع إيرادات وتكاليف العقد على الفترات المحاسبية التى يؤدى العمل الإنشائي خلالها.</a:t>
            </a:r>
            <a:endParaRPr b="0" lang="en-US" sz="2800" spc="-1" strike="noStrike">
              <a:solidFill>
                <a:srgbClr val="ffffff"/>
              </a:solidFill>
              <a:latin typeface="Times New Roman"/>
            </a:endParaRPr>
          </a:p>
        </p:txBody>
      </p:sp>
      <p:sp>
        <p:nvSpPr>
          <p:cNvPr id="136"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أولا : 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5580000" y="402120"/>
            <a:ext cx="31687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حادى عشر: حالة عملية</a:t>
            </a:r>
            <a:endParaRPr b="0" lang="en-US" sz="2800" spc="-1" strike="noStrike">
              <a:solidFill>
                <a:srgbClr val="ffffff"/>
              </a:solidFill>
              <a:latin typeface="Times New Roman"/>
            </a:endParaRPr>
          </a:p>
        </p:txBody>
      </p:sp>
      <p:sp>
        <p:nvSpPr>
          <p:cNvPr id="231" name=""/>
          <p:cNvSpPr/>
          <p:nvPr/>
        </p:nvSpPr>
        <p:spPr>
          <a:xfrm>
            <a:off x="468360" y="598320"/>
            <a:ext cx="8207280" cy="6677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حصل مقاول إنشاءات على عقد محدد السعر ب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لبناء كوبرى.</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بلغ القيمة المبدئية للإيرادات المتفق عليها فى العقد 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وتبلغ القيمة التقديرية لإجمالي تكاليف العقد </a:t>
            </a:r>
            <a:r>
              <a:rPr b="1" lang="ar-SA" sz="2400" spc="-1" strike="noStrike">
                <a:solidFill>
                  <a:srgbClr val="ffffff"/>
                </a:solidFill>
                <a:latin typeface="Arial"/>
                <a:ea typeface="Arial"/>
              </a:rPr>
              <a:t>8000</a:t>
            </a:r>
            <a:r>
              <a:rPr b="1" lang="ar-SA" sz="2400" spc="-1" strike="noStrike">
                <a:solidFill>
                  <a:srgbClr val="ffffff"/>
                </a:solidFill>
                <a:latin typeface="Arial"/>
                <a:ea typeface="Arial"/>
              </a:rPr>
              <a:t> جنيه و مدة تنفيذ العقد تبلغ </a:t>
            </a:r>
            <a:br>
              <a:rPr sz="2400"/>
            </a:br>
            <a:r>
              <a:rPr b="1" lang="ar-SA" sz="2400" spc="-1" strike="noStrike">
                <a:solidFill>
                  <a:srgbClr val="ffffff"/>
                </a:solidFill>
                <a:latin typeface="Arial"/>
                <a:ea typeface="Arial"/>
              </a:rPr>
              <a:t>3</a:t>
            </a:r>
            <a:r>
              <a:rPr b="1" lang="ar-SA" sz="2400" spc="-1" strike="noStrike">
                <a:solidFill>
                  <a:srgbClr val="ffffff"/>
                </a:solidFill>
                <a:latin typeface="Arial"/>
                <a:ea typeface="Arial"/>
              </a:rPr>
              <a:t> سنوات.</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ى نهاية السنة الأولى قدر المقاول أن تكاليف العقد قد زادت لتصبح </a:t>
            </a:r>
            <a:r>
              <a:rPr b="1" lang="ar-SA" sz="2400" spc="-1" strike="noStrike">
                <a:solidFill>
                  <a:srgbClr val="ffffff"/>
                </a:solidFill>
                <a:latin typeface="Arial"/>
                <a:ea typeface="Arial"/>
              </a:rPr>
              <a:t>8050</a:t>
            </a:r>
            <a:r>
              <a:rPr b="1" lang="ar-SA"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فى السنة الثانية اعتمد صاحب العمل أوامر تعديل زادت من قيمة التعاقد بمبلغ </a:t>
            </a:r>
            <a:r>
              <a:rPr b="1" lang="ar-SA" sz="2400" spc="-1" strike="noStrike">
                <a:solidFill>
                  <a:srgbClr val="ffffff"/>
                </a:solidFill>
                <a:latin typeface="Arial"/>
                <a:ea typeface="Arial"/>
              </a:rPr>
              <a:t>200</a:t>
            </a:r>
            <a:r>
              <a:rPr b="1" lang="ar-SA" sz="2400" spc="-1" strike="noStrike">
                <a:solidFill>
                  <a:srgbClr val="ffffff"/>
                </a:solidFill>
                <a:latin typeface="Arial"/>
                <a:ea typeface="Arial"/>
              </a:rPr>
              <a:t> جنيه وزادت من تكاليف التعاقد بمبلغ </a:t>
            </a:r>
            <a:r>
              <a:rPr b="1" lang="ar-SA" sz="2400" spc="-1" strike="noStrike">
                <a:solidFill>
                  <a:srgbClr val="ffffff"/>
                </a:solidFill>
                <a:latin typeface="Arial"/>
                <a:ea typeface="Arial"/>
              </a:rPr>
              <a:t>150</a:t>
            </a:r>
            <a:r>
              <a:rPr b="1" lang="ar-SA" sz="2400" spc="-1" strike="noStrike">
                <a:solidFill>
                  <a:srgbClr val="ffffff"/>
                </a:solidFill>
                <a:latin typeface="Arial"/>
                <a:ea typeface="Arial"/>
              </a:rPr>
              <a:t> جنيه . وفى نهاية السنة الثانية تضمنت التكاليف المنفقة مبلغ </a:t>
            </a:r>
            <a:r>
              <a:rPr b="1" lang="ar-SA" sz="2400" spc="-1" strike="noStrike">
                <a:solidFill>
                  <a:srgbClr val="ffffff"/>
                </a:solidFill>
                <a:latin typeface="Arial"/>
                <a:ea typeface="Arial"/>
              </a:rPr>
              <a:t>100</a:t>
            </a:r>
            <a:r>
              <a:rPr b="1" lang="ar-SA" sz="2400" spc="-1" strike="noStrike">
                <a:solidFill>
                  <a:srgbClr val="ffffff"/>
                </a:solidFill>
                <a:latin typeface="Arial"/>
                <a:ea typeface="Arial"/>
              </a:rPr>
              <a:t> جنيه تكلفة للمواد النمطية المخزنة فى المواقع و التى تستخدم فى السنة الثالثة لإتمام التعاقد.</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حدد المقاول نسبة الإتمام للعقد بطريقة نسبة التكاليف التى أنفقها حتى تاريخه للأعمال المنفذة للعقد إلى آخر تقدير لإجمالي تكاليف العقد وفيما يلى ملخص للبيانات المالية خلال فترة الإنشاء:</a:t>
            </a:r>
            <a:endParaRPr b="0" lang="en-US" sz="2400" spc="-1" strike="noStrike">
              <a:solidFill>
                <a:srgbClr val="ffffff"/>
              </a:solidFill>
              <a:latin typeface="Times New Roman"/>
            </a:endParaRPr>
          </a:p>
        </p:txBody>
      </p:sp>
      <p:sp>
        <p:nvSpPr>
          <p:cNvPr id="232" name=""/>
          <p:cNvSpPr/>
          <p:nvPr/>
        </p:nvSpPr>
        <p:spPr>
          <a:xfrm>
            <a:off x="6066360" y="1268280"/>
            <a:ext cx="3006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حالة عملية رقم (</a:t>
            </a:r>
            <a:r>
              <a:rPr b="1" lang="ar-SA" sz="2400" spc="-1" strike="noStrike" u="sng">
                <a:solidFill>
                  <a:srgbClr val="ffffff"/>
                </a:solidFill>
                <a:uFillTx/>
                <a:latin typeface="Arial"/>
                <a:ea typeface="Arial"/>
              </a:rPr>
              <a:t>1</a:t>
            </a:r>
            <a:r>
              <a:rPr b="1" lang="ar-SA" sz="2400" spc="-1" strike="noStrike" u="sng">
                <a:solidFill>
                  <a:srgbClr val="ffffff"/>
                </a:solidFill>
                <a:uFillTx/>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3" name=""/>
          <p:cNvGraphicFramePr/>
          <p:nvPr/>
        </p:nvGraphicFramePr>
        <p:xfrm>
          <a:off x="684360" y="1268280"/>
          <a:ext cx="7931160" cy="3919680"/>
        </p:xfrm>
        <a:graphic>
          <a:graphicData uri="http://schemas.openxmlformats.org/drawingml/2006/table">
            <a:tbl>
              <a:tblPr/>
              <a:tblGrid>
                <a:gridCol w="1042920"/>
                <a:gridCol w="1887480"/>
                <a:gridCol w="1042920"/>
                <a:gridCol w="3957840"/>
              </a:tblGrid>
              <a:tr h="10087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3</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2</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1</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 </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مبلغ الأولى للإيرادات المتفق عليه فى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أوامر التعديل</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إيرادات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6168</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93</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العقد المنفقة حتى تاريخ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32</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5957</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مقدرة لإتمام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0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تكلفة العقد المقدرة </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أرباح المقدرة</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7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نسبة الإتما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
          <p:cNvSpPr/>
          <p:nvPr/>
        </p:nvSpPr>
        <p:spPr>
          <a:xfrm>
            <a:off x="611280" y="1778760"/>
            <a:ext cx="813744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ت نسبة الإتمام للعام (</a:t>
            </a:r>
            <a:r>
              <a:rPr b="1" lang="ar-SA" sz="2800" spc="-1" strike="noStrike">
                <a:solidFill>
                  <a:srgbClr val="ffffff"/>
                </a:solidFill>
                <a:latin typeface="Arial"/>
                <a:ea typeface="Arial"/>
              </a:rPr>
              <a:t>2</a:t>
            </a:r>
            <a:r>
              <a:rPr b="1" lang="ar-SA" sz="2800" spc="-1" strike="noStrike">
                <a:solidFill>
                  <a:srgbClr val="ffffff"/>
                </a:solidFill>
                <a:latin typeface="Arial"/>
                <a:ea typeface="Arial"/>
              </a:rPr>
              <a:t>) بنسبة </a:t>
            </a:r>
            <a:r>
              <a:rPr b="1" lang="ar-SA" sz="2800" spc="-1" strike="noStrike">
                <a:solidFill>
                  <a:srgbClr val="ffffff"/>
                </a:solidFill>
                <a:latin typeface="Arial"/>
                <a:ea typeface="Arial"/>
              </a:rPr>
              <a:t>74</a:t>
            </a:r>
            <a:r>
              <a:rPr b="1" lang="ar-SA" sz="2800" spc="-1" strike="noStrike">
                <a:solidFill>
                  <a:srgbClr val="ffffff"/>
                </a:solidFill>
                <a:latin typeface="Arial"/>
                <a:ea typeface="Arial"/>
              </a:rPr>
              <a:t>% بعد استبعاد الـ</a:t>
            </a:r>
            <a:r>
              <a:rPr b="1" lang="ar-SA" sz="2800" spc="-1" strike="noStrike">
                <a:solidFill>
                  <a:srgbClr val="ffffff"/>
                </a:solidFill>
                <a:latin typeface="Arial"/>
                <a:ea typeface="Arial"/>
              </a:rPr>
              <a:t>100</a:t>
            </a:r>
            <a:r>
              <a:rPr b="1" lang="ar-SA" sz="2800" spc="-1" strike="noStrike">
                <a:solidFill>
                  <a:srgbClr val="ffffff"/>
                </a:solidFill>
                <a:latin typeface="Arial"/>
                <a:ea typeface="Arial"/>
              </a:rPr>
              <a:t> جنيه قيمة المواد النمطية المخزنة بالمواقع لاستخدامها فى العام (</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من تكلفة العقد المنفقة على الأعمال المنفذة حتى تاريخه . تظهر مبالغ الإيرادات والمصروفات والأرباح المحققة فى قائمة الدخل عن السنوات الثلاث كما يلى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5" name=""/>
          <p:cNvGraphicFramePr/>
          <p:nvPr/>
        </p:nvGraphicFramePr>
        <p:xfrm>
          <a:off x="1042920" y="907920"/>
          <a:ext cx="6889680" cy="4934160"/>
        </p:xfrm>
        <a:graphic>
          <a:graphicData uri="http://schemas.openxmlformats.org/drawingml/2006/table">
            <a:tbl>
              <a:tblPr/>
              <a:tblGrid>
                <a:gridCol w="1417680"/>
                <a:gridCol w="1440000"/>
                <a:gridCol w="936360"/>
                <a:gridCol w="3095640"/>
              </a:tblGrid>
              <a:tr h="82404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عام الحالى</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سنوات السابقة</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حتى تاريخ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1</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0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05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2</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46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975</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93</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3</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92</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92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10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132</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820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6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رب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
          <p:cNvSpPr/>
          <p:nvPr/>
        </p:nvSpPr>
        <p:spPr>
          <a:xfrm>
            <a:off x="611280" y="1316880"/>
            <a:ext cx="8064360" cy="4786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صل المقاول إلى نهاية السنة الأولى للعمليات وقد سدد المقاول كل التكاليف التى تحملها نقداً كما حصل كافة المستخلصات والمقدمات نقد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ضمنت تكاليف العقود (ب ،ج ، هـ) خامات تم شراؤها إلا أنها لم تستخدم فى العقود المنفذة حتى تاريخ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النسبة للعقد ب ، ج ، هـ ، سدد العميل دفعات مقدمة عن أعمال لم تتم بعد .. ويظهر موقف الخمسة عقود تحت التنفيذ فى نهاية السنة الأولى كما يلى :</a:t>
            </a:r>
            <a:endParaRPr b="0" lang="en-US" sz="2800" spc="-1" strike="noStrike">
              <a:solidFill>
                <a:srgbClr val="ffffff"/>
              </a:solidFill>
              <a:latin typeface="Times New Roman"/>
            </a:endParaRPr>
          </a:p>
        </p:txBody>
      </p:sp>
      <p:sp>
        <p:nvSpPr>
          <p:cNvPr id="237" name=""/>
          <p:cNvSpPr/>
          <p:nvPr/>
        </p:nvSpPr>
        <p:spPr>
          <a:xfrm>
            <a:off x="5271480" y="1268280"/>
            <a:ext cx="3996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إفصاح عن العقو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539640" y="907920"/>
          <a:ext cx="8209080" cy="4843440"/>
        </p:xfrm>
        <a:graphic>
          <a:graphicData uri="http://schemas.openxmlformats.org/drawingml/2006/table">
            <a:tbl>
              <a:tblPr/>
              <a:tblGrid>
                <a:gridCol w="765360"/>
                <a:gridCol w="745920"/>
                <a:gridCol w="619200"/>
                <a:gridCol w="758880"/>
                <a:gridCol w="795240"/>
                <a:gridCol w="754200"/>
                <a:gridCol w="3770280"/>
              </a:tblGrid>
              <a:tr h="5806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صروف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خسائر المحتملة و المقدرة طبقاً للفقرة "</a:t>
                      </a:r>
                      <a:r>
                        <a:rPr b="1" lang="ar-SA" sz="1600" spc="-1" strike="noStrike">
                          <a:solidFill>
                            <a:srgbClr val="ffffff"/>
                          </a:solidFill>
                          <a:latin typeface="Times New Roman"/>
                          <a:ea typeface="Simplified Arabic"/>
                        </a:rPr>
                        <a:t>25</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3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9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أرباح المحققة ناقصاً الخسائر المحقق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خلال الفتر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و المثبتة كمصروفات العقد خلال الفتر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تعلقة بالنشاط فى المستقبل و المثبتة كأصول طبقاً للفقرة "</a:t>
                      </a:r>
                      <a:r>
                        <a:rPr b="1" lang="ar-SA" sz="1600" spc="-1" strike="noStrike">
                          <a:solidFill>
                            <a:srgbClr val="ffffff"/>
                          </a:solidFill>
                          <a:latin typeface="Times New Roman"/>
                          <a:ea typeface="Simplified Arabic"/>
                        </a:rPr>
                        <a:t>26</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ود (أعلا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مستخلص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عقد لم يتم المطالبة بها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قدم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1187280" y="1241280"/>
            <a:ext cx="756144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1" lang="ar-SA" sz="2000" spc="-1" strike="noStrike" u="sng">
                <a:solidFill>
                  <a:srgbClr val="ffff00"/>
                </a:solidFill>
                <a:uFillTx/>
                <a:latin typeface="Arial"/>
                <a:cs typeface="Arial"/>
              </a:rPr>
              <a:t>جني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يمة الإيرادات التى تحققت خلال الفتر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فقرة "</a:t>
            </a:r>
            <a:r>
              <a:rPr b="1" lang="ar-SA" sz="2000" spc="-1" strike="noStrike">
                <a:solidFill>
                  <a:srgbClr val="ffffff"/>
                </a:solidFill>
                <a:latin typeface="Arial"/>
                <a:ea typeface="Arial"/>
              </a:rPr>
              <a:t>38</a:t>
            </a:r>
            <a:r>
              <a:rPr b="1" lang="ar-SA" sz="2000" spc="-1" strike="noStrike">
                <a:solidFill>
                  <a:srgbClr val="ffffff"/>
                </a:solidFill>
                <a:latin typeface="Arial"/>
                <a:cs typeface="Arial"/>
              </a:rPr>
              <a:t>أ")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30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تكاليف العقود التى تم تحملها والأرباح المحقق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ناقصاً الخسائر المحققة) حتى تاريخه(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43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قدمات محصلة (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ب")</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2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ى القيمة المستحقة من العملاء عن أعمال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عقود و المدرجة كأصول 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أ"</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22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ي القيمة المستحقة للعملاء عن أعمال العقود و المدرجة كالتزامات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ب"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p:txBody>
      </p:sp>
      <p:sp>
        <p:nvSpPr>
          <p:cNvPr id="240" name=""/>
          <p:cNvSpPr/>
          <p:nvPr/>
        </p:nvSpPr>
        <p:spPr>
          <a:xfrm>
            <a:off x="410040" y="836640"/>
            <a:ext cx="9955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بالغ التى يجب الإفصاح عنها طبقاً للمعيار هى كما يلى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م احتساب المبالغ الواجب الإفصاح عنها طبقاً للفقرات "</a:t>
            </a:r>
            <a:r>
              <a:rPr b="1" lang="ar-SA" sz="3200" spc="-1" strike="noStrike">
                <a:solidFill>
                  <a:srgbClr val="ffff00"/>
                </a:solidFill>
                <a:latin typeface="Arial"/>
              </a:rPr>
              <a:t>39</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ب" كالآتى :</a:t>
            </a:r>
            <a:endParaRPr b="0" lang="en-US" sz="3200" spc="-1" strike="noStrike">
              <a:solidFill>
                <a:srgbClr val="e3e3ff"/>
              </a:solidFill>
              <a:latin typeface="Arial"/>
            </a:endParaRPr>
          </a:p>
        </p:txBody>
      </p:sp>
      <p:graphicFrame>
        <p:nvGraphicFramePr>
          <p:cNvPr id="242" name=""/>
          <p:cNvGraphicFramePr/>
          <p:nvPr/>
        </p:nvGraphicFramePr>
        <p:xfrm>
          <a:off x="395280" y="2852640"/>
          <a:ext cx="8362800" cy="2732040"/>
        </p:xfrm>
        <a:graphic>
          <a:graphicData uri="http://schemas.openxmlformats.org/drawingml/2006/table">
            <a:tbl>
              <a:tblPr/>
              <a:tblGrid>
                <a:gridCol w="874800"/>
                <a:gridCol w="1214280"/>
                <a:gridCol w="792360"/>
                <a:gridCol w="790560"/>
                <a:gridCol w="720720"/>
                <a:gridCol w="936360"/>
                <a:gridCol w="3033720"/>
              </a:tblGrid>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تكاليف العقد المنفقة حتى تاريخ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3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9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 المحققة ناقصاً الخسائر المحقق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3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ستخلصات</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2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على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ل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84360" y="2207520"/>
            <a:ext cx="7956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تطبيق هذا المعيار فى المحاسبة عن عقود الإنشاءات فى القوائم المالية للمقاولين</a:t>
            </a:r>
            <a:endParaRPr b="0" lang="en-US" sz="2800" spc="-1" strike="noStrike">
              <a:solidFill>
                <a:srgbClr val="ffffff"/>
              </a:solidFill>
              <a:latin typeface="Times New Roman"/>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8" name=""/>
          <p:cNvSpPr/>
          <p:nvPr/>
        </p:nvSpPr>
        <p:spPr>
          <a:xfrm>
            <a:off x="4643280" y="141300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نيا : 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755640" y="2279520"/>
            <a:ext cx="763272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هو عقد تم إبرامه خصيصاً لإنشاء أص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جموعة من الأصول التى ترتبط ببعضه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عتمد على بعضها البعض من ناحية التصميم أو التقنية أو الوظائف أو الغرض أو الاستخدام النهائي لها.</a:t>
            </a:r>
            <a:endParaRPr b="0" lang="en-US" sz="2800" spc="-1" strike="noStrike">
              <a:solidFill>
                <a:srgbClr val="ffffff"/>
              </a:solidFill>
              <a:latin typeface="Times New Roman"/>
            </a:endParaRPr>
          </a:p>
        </p:txBody>
      </p:sp>
      <p:sp>
        <p:nvSpPr>
          <p:cNvPr id="140" name=""/>
          <p:cNvSpPr/>
          <p:nvPr/>
        </p:nvSpPr>
        <p:spPr>
          <a:xfrm>
            <a:off x="5936760" y="907920"/>
            <a:ext cx="2958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لثا : تعريفات</a:t>
            </a:r>
            <a:endParaRPr b="0" lang="en-US" sz="3200" spc="-1" strike="noStrike">
              <a:solidFill>
                <a:srgbClr val="ffffff"/>
              </a:solidFill>
              <a:latin typeface="Times New Roman"/>
            </a:endParaRPr>
          </a:p>
        </p:txBody>
      </p:sp>
      <p:sp>
        <p:nvSpPr>
          <p:cNvPr id="141" name=""/>
          <p:cNvSpPr/>
          <p:nvPr/>
        </p:nvSpPr>
        <p:spPr>
          <a:xfrm>
            <a:off x="4991760" y="1671480"/>
            <a:ext cx="38552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ea typeface="Arial"/>
              </a:rPr>
              <a:t>1</a:t>
            </a:r>
            <a:r>
              <a:rPr b="1" lang="ar-SA" sz="3200" spc="-1" strike="noStrike" u="sng">
                <a:solidFill>
                  <a:srgbClr val="ffffff"/>
                </a:solidFill>
                <a:uFillTx/>
                <a:latin typeface="Arial"/>
                <a:ea typeface="Arial"/>
              </a:rPr>
              <a:t>-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2</a:t>
            </a:r>
            <a:r>
              <a:rPr b="1" lang="ar-EG" sz="2800" spc="-1" strike="noStrike" u="sng">
                <a:solidFill>
                  <a:srgbClr val="ffffff"/>
                </a:solidFill>
                <a:uFillTx/>
                <a:latin typeface="Times New Roman"/>
                <a:ea typeface="Simplified Arabic"/>
              </a:rPr>
              <a:t>-</a:t>
            </a:r>
            <a:r>
              <a:rPr b="1" lang="ar-SA" sz="2800" spc="-1" strike="noStrike" u="sng">
                <a:solidFill>
                  <a:srgbClr val="ffffff"/>
                </a:solidFill>
                <a:uFillTx/>
                <a:latin typeface="Times New Roman"/>
                <a:ea typeface="Simplified Arabic"/>
              </a:rPr>
              <a:t> العقد محدد السع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وافق فيه المقاول على سعر محدد للعقد ككل</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لى سعر محدد لكل عنص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لكل مخرج من مخرجات تنفيذ العملي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والذى قد يتضمن فى بعض مواده الحق فى زيادة الأسعار بنسبة معين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900000" y="1844640"/>
            <a:ext cx="7488360" cy="3168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3</a:t>
            </a:r>
            <a:r>
              <a:rPr b="1" lang="ar-SA" sz="2800" spc="-1" strike="noStrike" u="sng">
                <a:solidFill>
                  <a:srgbClr val="ffffff"/>
                </a:solidFill>
                <a:uFillTx/>
                <a:latin typeface="Times New Roman"/>
                <a:ea typeface="Simplified Arabic"/>
              </a:rPr>
              <a:t>- عقد بالتكلفة زائد نسب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قوم بموجبه المقاول باسترداد التكاليف المسموح بها</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عرفة بالعقد بالإضافة الى نسبة مئوية من التكاليف</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مبلغ أتعاب محد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258920" y="1484280"/>
            <a:ext cx="716292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قود الإنشاءات تتضمن على:</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قديم خدمات</a:t>
            </a:r>
            <a:r>
              <a:rPr b="1" lang="en-US" sz="2800" spc="-1" strike="noStrike">
                <a:solidFill>
                  <a:srgbClr val="ffffff"/>
                </a:solidFill>
                <a:latin typeface="Arial"/>
                <a:ea typeface="Arial"/>
              </a:rPr>
              <a:t>:</a:t>
            </a:r>
            <a:r>
              <a:rPr b="1" lang="ar-SA" sz="2800" spc="-1" strike="noStrike">
                <a:solidFill>
                  <a:srgbClr val="ffffff"/>
                </a:solidFill>
                <a:latin typeface="Arial"/>
                <a:ea typeface="Arial"/>
              </a:rPr>
              <a:t> لها علاقة مباشرة بإنشاء هذا الأصل مثال ذلك خدمات مدير المشروع والمهندس المعماري.</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هدم وإزالة بعض الأصول.</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نظيف البيئة من أثار عمليات هدم هذه ال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a.akkad</cp:lastModifiedBy>
  <dcterms:modified xsi:type="dcterms:W3CDTF">2006-11-06T21:30:36Z</dcterms:modified>
  <cp:revision>33</cp:revision>
  <dc:subject/>
  <dc:title>Slide 1</dc:title>
</cp:coreProperties>
</file>